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4BBB-E652-4229-A9F2-0FDC70CF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83E-C275-4E96-88FE-07648C87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DB3-68FF-4110-9486-F116E8DA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F9D-560B-4374-AB11-EAB403E2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CA2-D7C2-45C0-BBA9-FD4EC57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157-4D5F-46D6-9FF3-EBC1B75D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81C-A20B-4FF3-B2B0-4CC4DA8A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527F-87E5-48AE-926B-1569A0E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226-9A55-4C04-8592-A2D2ACC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805-6B37-419E-98CD-6927286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483-F58F-4970-8384-E670BD7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998-ACBD-40CE-AC32-E6CA1F4F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80F4-1623-4376-8DA2-325325B7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5324937uKhisKVkwI_ph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4572000" cy="10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تحت الصليب بركع عندك بتأمل في جراحات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نا بجيلك بجروحي وأعرف أنه شفائي فيك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تى لو كان الرأس سقيم حتى لو كان الكل مريض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 بجيلك بحروحي وأعرف انه شفائي فيك</a:t>
            </a:r>
            <a:r>
              <a:rPr b="0" lang="ar-SA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tat0903" descr=""/>
          <p:cNvPicPr/>
          <p:nvPr/>
        </p:nvPicPr>
        <p:blipFill>
          <a:blip r:embed="rId1"/>
          <a:stretch/>
        </p:blipFill>
        <p:spPr>
          <a:xfrm>
            <a:off x="3733920" y="0"/>
            <a:ext cx="54784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1143000"/>
            <a:ext cx="34290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بجلدتك شُفيت بجلدتك شُفي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jesus%20on%20crossss" descr=""/>
          <p:cNvPicPr/>
          <p:nvPr/>
        </p:nvPicPr>
        <p:blipFill>
          <a:blip r:embed="rId1"/>
          <a:stretch/>
        </p:blipFill>
        <p:spPr>
          <a:xfrm>
            <a:off x="4572000" y="0"/>
            <a:ext cx="48657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4572000" cy="110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كل إساءة لم تُغتفر  وجرحي في القلب انحف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حتى لو كان بقالو سنين إيماني فيك إنت يا مع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إرفع المجد لاسمك في صليبك قوة شف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قوة تحرير قوة تبرير قوة سلام وفرح وعزاء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09:39:24Z</dcterms:created>
  <dc:creator>SUZANNE.MD</dc:creator>
  <dc:description/>
  <dc:language>en-US</dc:language>
  <cp:lastModifiedBy>SUZANNE.MD</cp:lastModifiedBy>
  <dcterms:modified xsi:type="dcterms:W3CDTF">2003-03-10T10:05:04Z</dcterms:modified>
  <cp:revision>1</cp:revision>
  <dc:subject/>
  <dc:title>PowerPoint Presentation</dc:title>
</cp:coreProperties>
</file>